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D17-B628-4546-A017-3D7C05CD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6AD-7D23-4C72-BAFA-B562968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F71-F5CB-4CD0-948C-4612223E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0F1-282A-469A-A0B1-583D2744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8A62-CA27-461B-92B6-1DD49AC5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66E6-4740-4E9E-821F-FC974DBD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5298-1E12-4912-9CD7-7522BBAD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E6E-CCFF-4BB0-9A18-F04E50A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E28-D5DD-4234-93A4-B943D702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D834-9345-4DC2-B897-95F8EACB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929C-07C8-4747-9798-009F56B1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10A-1A58-4379-A645-F6475C2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ACC3-1734-415F-BEB6-2572B4E0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25BE-D643-4882-B8CC-CAD6029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9A6-8CD2-4874-B13C-E9C57A3A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8417-9B18-4023-A607-14F1AC61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7AFB-7C3B-4AEC-ACDE-D4491899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2B3-D31C-4C35-B473-BBAE7931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28A-AB58-4812-B4FA-4365CD92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629-964C-4CD1-9A15-6BD74F66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69-A765-44D3-BAD4-D4BFC1E2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DAB-0F45-471D-8D49-0690393B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3A8-77B4-4147-8ADD-EC5C82AE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2A7-F1B0-4B4A-9E27-A527E6D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9A53-9A74-45AC-91FD-8C119F0BF23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4CAE-BBE0-4E81-85B4-B8946A73F6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72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73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30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31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90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91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44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9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5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06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07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40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60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61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701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0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0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14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15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1000"/>
                            </p:stCondLst>
                            <p:childTnLst>
                              <p:par>
                                <p:cTn id="72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2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9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44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88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2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66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8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79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80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8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19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0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6000"/>
                            </p:stCondLst>
                            <p:childTnLst>
                              <p:par>
                                <p:cTn id="84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49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50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51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